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7DBC-C0BE-4567-9292-733B549C62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FD48-453F-4E83-9777-6E34803D4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D005-7F88-4B90-9750-C7ECAB90B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8410-9ED8-4BF2-8A3F-D27924389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65A9-3F84-435D-AA85-148EFCAAE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1FBC-EEA8-40C4-A455-8A1AEC19D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C1DD-4E58-45F3-911F-C16C7DA3F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DB23-338B-43AD-8326-38A2F17B7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E41B-F399-4945-86C6-B5F95EB8A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1541-DD25-4DE9-8807-D06DA3F4F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1F7D-A9D8-4614-AEC4-27ABC37D4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18FA-40EA-4C2D-B760-31062F2B7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EBB5-301D-44A9-A1A4-E7FE278AC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AC40-AC04-455B-98E8-62386381E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9E0A-185A-45E1-AE06-4085D91D3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70D8-76F4-41D5-8433-7CE7910EB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8101-FC15-4EFB-B3E7-EFC73F36A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0CD3-D126-46B6-91C1-C9697B075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C2F7-E615-4AB5-8EA7-87FAF621C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F174-1402-482C-B0FB-58AC0EEAD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E082-DF16-4AEA-97F5-396EB42A1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49FC-E260-48E3-BBE7-E53031684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2E45-F835-43B9-A87D-62B00AFC3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63D3-8CD8-464F-8379-53E934847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35AD-6CD4-4277-86F1-208502C18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2821-BA73-4634-A24E-D925EA0D3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4111-5D1F-47B0-A8EA-A50FCB4BB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9040" y="394776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B53B-D0ED-411F-AACC-98139DCC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D292-67E9-4B47-B988-91550D2D5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260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616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904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260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616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7A9A-D689-4D40-A865-EF7C7BF15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322F-E5C2-4660-B3DE-CB8B57492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30B4-0F83-4404-A14D-8F0F5014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9002-5746-4E8B-A674-AE75672D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D684-D116-4707-BEEC-B0BC7FF6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1E72-918C-4BD1-8474-02131B7E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79040" y="107640"/>
            <a:ext cx="7581960" cy="76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176C-0D2E-4311-854F-378F365F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0BDD-67DC-4BE1-9E2C-1005EB50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FBFA-2A81-4D67-A3DF-99238405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416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84A1-3E9B-419B-AAFA-9EB1C4F0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881E-012C-4651-AA58-7E25DC35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79040" y="394776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1B63-81FD-43E3-956B-B36063DF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416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9C4F-EF63-41FC-B41A-C91D32D95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4260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0616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7904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4260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0616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7A33-687B-4A18-8629-A4CFBEB79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D33EE-D75A-43E5-AA12-4F8E93307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78FD0-4A35-4D6C-9BA4-89E66C0C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C429B-C06E-4458-BFF5-C2764FC5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917AB-215D-485F-A6BE-9A4E0EEC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AEAD8-2A37-448F-9A56-9C74EB08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B142-6553-4DD2-8332-ECDE5D7B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79040" y="107640"/>
            <a:ext cx="7581960" cy="76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637BD-5FFA-4612-A5A2-63772CFC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89DD7-F5CB-4DC4-B5AA-A89E196A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416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1EB2A-2856-4877-BA44-493E8F9F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D9735-EAF0-4173-8DA5-81470FF9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79040" y="394776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29E3B-8073-4423-AB71-6FF42A1C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416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4035F-2E87-43D5-8535-51993DEF0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4260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0616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77904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4260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0616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FD9FA-7EED-489A-BF75-B478FD270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83396-8FD4-44E7-BAF3-937935D14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9B268-BCF4-4676-80A8-F72E3094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618BF-F615-43EB-9174-34CD1D56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FD56-C06C-44F0-B865-56133945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F64AE-D87F-46C8-96FB-790603CF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00056-79A6-44E3-98D4-42FDC948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779040" y="107640"/>
            <a:ext cx="7581960" cy="76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DF1D5-E438-4432-96F7-2644F133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ADEFD-DB15-4E7B-BB1E-CCB90AED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416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B826B-ACFC-4F6B-822A-AF4BE7FA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E5F77-EA37-49B3-A3B8-B3617968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779040" y="394776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22871-CCA7-4E9A-A7E5-5DCE9C5E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416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C51B0-DA5E-4C2B-8FDC-EF906A805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4260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0616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77904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4260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0616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181EC-BEBA-4A56-93F3-494FE9DBC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999DE-2160-4FBE-813E-B16E3CC6D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F693-A6F1-4630-9BAE-E22532BA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2550B-EAEB-418A-8213-0746473C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82CA2-A6A9-4C8C-B83B-EF6A46A3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D04FB-D53C-41E8-84F9-1F39F249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707B4-6FB4-4805-8BD2-283F7708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779040" y="107640"/>
            <a:ext cx="7581960" cy="76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6BEB2-B196-4B2A-A051-CA377F51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E7443-A06C-4A97-A1EB-EC106FFF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416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BB6B7-BDAD-4C36-8080-155101E1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3AC73-CC0E-4F22-9969-3D3CD7AF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79040" y="394776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586B5-720E-4EB3-9960-947F120D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416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E66B8-C7E2-416B-A4E5-1ED1F677C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9040" y="107640"/>
            <a:ext cx="7581960" cy="76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2BA1-D915-42C0-984A-07E25C3B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4260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0616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77904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4260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0616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E4198-51FC-4BD9-9DD2-160CD4936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A38D-3E5D-4FB0-8257-2EEBED33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8BBC-9CD6-4152-9503-CF86CB46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F3BD-07E9-44C1-AF79-766625E5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E5B2-6168-4C03-BE27-A01743699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GridOverlay.png"/>
          <p:cNvPicPr/>
          <p:nvPr/>
        </p:nvPicPr>
        <p:blipFill>
          <a:blip r:embed="rId3">
            <a:alphaModFix am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78720" indent="-378720">
              <a:spcBef>
                <a:spcPts val="20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1" marL="757800" indent="-37872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2" marL="1074240" indent="-31608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3" marL="1402560" indent="-32796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4" marL="1719000" indent="-31608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5" marL="1719000" indent="-31608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6" marL="1719000" indent="-316080"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41911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55D5-5666-4F5B-A111-BA9DAD272B7B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2303-28D2-4F5D-AAEF-EF6830FAC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GridOverlay.png"/>
          <p:cNvPicPr/>
          <p:nvPr/>
        </p:nvPicPr>
        <p:blipFill>
          <a:blip r:embed="rId3">
            <a:alphaModFix am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MoleculeTracer.png"/>
          <p:cNvPicPr/>
          <p:nvPr/>
        </p:nvPicPr>
        <p:blipFill>
          <a:blip r:embed="rId4"/>
          <a:stretch/>
        </p:blipFill>
        <p:spPr>
          <a:xfrm>
            <a:off x="1674720" y="225360"/>
            <a:ext cx="5796000" cy="39434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78720" indent="-378720">
              <a:spcBef>
                <a:spcPts val="20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1" marL="757800" indent="-37872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2" marL="1074240" indent="-31608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3" marL="1402560" indent="-32796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4" marL="1719000" indent="-31608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5" marL="1719000" indent="-316080"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6" marL="1719000" indent="-316080">
              <a:spcBef>
                <a:spcPts val="20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98F0-AA8F-4355-833E-B35547838AF2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41911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0618-9602-4595-8776-692803AA060B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6" descr="GridOverlay.png"/>
          <p:cNvPicPr/>
          <p:nvPr/>
        </p:nvPicPr>
        <p:blipFill>
          <a:blip r:embed="rId3">
            <a:alphaModFix am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78720" indent="-378720">
              <a:spcBef>
                <a:spcPts val="20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1" marL="757800" indent="-37872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2" marL="1074240" indent="-31608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3" marL="1402560" indent="-32796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4" marL="1719000" indent="-31608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5" marL="1719000" indent="-31608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6" marL="1719000" indent="-316080"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AD20-77DA-42E3-8434-56301F64F4F6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41911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C0D0-3C31-489D-BDA8-942F85C83177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slideLayout" Target="../slideLayouts/slideLayout13.xml"/><Relationship Id="rId2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365724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Welcome to the 2011-2012 school year!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 advTm="24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Possible Behavioral Consequences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20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Warning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609480" indent="-609480">
              <a:spcBef>
                <a:spcPts val="20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Conference with student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609480" indent="-609480">
              <a:spcBef>
                <a:spcPts val="2001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You call home and explain to parents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609480" indent="-609480">
              <a:spcBef>
                <a:spcPts val="2001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I make formal parent contact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609480" indent="-609480">
              <a:spcBef>
                <a:spcPts val="2001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After school detention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609480" indent="-609480">
              <a:spcBef>
                <a:spcPts val="2001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Referral to Administration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 advTm="22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Class Procedures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20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We will only be reviewing the most commonly used procedures at this time. 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Refer to your Procedures handout for a more complete list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Procedures may be changed or added to if the need arises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 advTm="20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Why Do We Have Procedures?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63520" y="1295280"/>
            <a:ext cx="7386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74760" indent="-374760">
              <a:lnSpc>
                <a:spcPct val="90000"/>
              </a:lnSpc>
              <a:spcBef>
                <a:spcPts val="20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A procedure is the way that we do things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374760" indent="-374760">
              <a:lnSpc>
                <a:spcPct val="90000"/>
              </a:lnSpc>
              <a:spcBef>
                <a:spcPts val="20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To do things efficiently, we have to follow some simple procedures, for example: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lvl="1" marL="749880" indent="-3747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o open your locker, you have to select your combination as directed by the lock manufacturer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1" marL="749880" indent="-3747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o cook a delicious meal, you need to follow the steps in the recipe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1" marL="749880" indent="-3747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o place a call on your phone, you need to dial the number in the right order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4" marL="1380240" indent="-2610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o, to be successful in learning,           you need to follow some simple procedures!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1" marL="749880" indent="-37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 advTm="49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ENTRANCE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0960" indent="-390960">
              <a:lnSpc>
                <a:spcPct val="90000"/>
              </a:lnSpc>
              <a:spcBef>
                <a:spcPts val="20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Make sure you have all necessary materials for the class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390960" indent="-390960">
              <a:lnSpc>
                <a:spcPct val="90000"/>
              </a:lnSpc>
              <a:spcBef>
                <a:spcPts val="20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Enter the classroom quietly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390960" indent="-390960">
              <a:lnSpc>
                <a:spcPct val="90000"/>
              </a:lnSpc>
              <a:spcBef>
                <a:spcPts val="2001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Pick up any handouts and do any housekeeping items quickly and quietly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390960" indent="-390960">
              <a:lnSpc>
                <a:spcPct val="90000"/>
              </a:lnSpc>
              <a:spcBef>
                <a:spcPts val="2001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Go directly to your assigned seat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390960" indent="-390960">
              <a:lnSpc>
                <a:spcPct val="90000"/>
              </a:lnSpc>
              <a:spcBef>
                <a:spcPts val="2001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Get ready for work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390960" indent="-390960">
              <a:lnSpc>
                <a:spcPct val="90000"/>
              </a:lnSpc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 advTm="45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Right After the Bell Rings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20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Immediately start your entry task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When you finish, wait quietly and read in your individual or classroom book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 advTm="12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During Instruction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lnSpc>
                <a:spcPct val="70000"/>
              </a:lnSpc>
              <a:spcBef>
                <a:spcPts val="20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Listen to the teacher/speaker with full attention.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lnSpc>
                <a:spcPct val="70000"/>
              </a:lnSpc>
              <a:spcBef>
                <a:spcPts val="20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No pencil sharpening, talking, moving about the classroom, or whispering.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lnSpc>
                <a:spcPct val="70000"/>
              </a:lnSpc>
              <a:spcBef>
                <a:spcPts val="20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Ask permission to speak by raising your hand and waiting quietly to be called on. 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lnSpc>
                <a:spcPct val="70000"/>
              </a:lnSpc>
              <a:spcBef>
                <a:spcPts val="20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After instruction, make sure you understand the concept. 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lnSpc>
                <a:spcPct val="70000"/>
              </a:lnSpc>
              <a:spcBef>
                <a:spcPts val="20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If not, ask questions by mentioning which part you didn’t understand.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lnSpc>
                <a:spcPct val="70000"/>
              </a:lnSpc>
              <a:spcBef>
                <a:spcPts val="200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lnSpc>
                <a:spcPct val="70000"/>
              </a:lnSpc>
              <a:spcBef>
                <a:spcPts val="2001"/>
              </a:spcBef>
              <a:buSzPct val="10289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ndara"/>
              </a:rPr>
              <a:t>    </a:t>
            </a:r>
            <a:endParaRPr b="1" lang="en-US" sz="15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 advTm="49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If the Teacher Raises Her Hand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63520" y="1371600"/>
            <a:ext cx="7386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74760" indent="-374760">
              <a:spcBef>
                <a:spcPts val="20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Stop whatever you are doing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374760" indent="-374760">
              <a:spcBef>
                <a:spcPts val="20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Face the teacher and wait silently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374760" indent="-374760">
              <a:spcBef>
                <a:spcPts val="2001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ndara"/>
              </a:rPr>
              <a:t>Quietly</a:t>
            </a: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, notify any classmates who haven’t noticed that the teacher has raised her hand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374760" indent="-374760">
              <a:spcBef>
                <a:spcPts val="2001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No talking or whispering.  All of your attention should be given to the teacher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374760" indent="-374760">
              <a:spcBef>
                <a:spcPts val="2001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Other ZNS (zero noise signals)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lvl="1" marL="749880" indent="-37476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Clapping – response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1" marL="749880" indent="-37476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If you can hear me, clap once…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1" marL="749880" indent="-37476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374760" indent="-3747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 advTm="50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7476840" cy="83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ndara"/>
              </a:rPr>
              <a:t>When You Are Absent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lnSpc>
                <a:spcPct val="80000"/>
              </a:lnSpc>
              <a:spcBef>
                <a:spcPts val="2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Ask your neighbors what we did. 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lnSpc>
                <a:spcPct val="80000"/>
              </a:lnSpc>
              <a:spcBef>
                <a:spcPts val="2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Check the “You missed out” file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lnSpc>
                <a:spcPct val="80000"/>
              </a:lnSpc>
              <a:spcBef>
                <a:spcPts val="20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If you have questions about assignments, check with the teacher at an appropriate time.  Do the work at home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lnSpc>
                <a:spcPct val="80000"/>
              </a:lnSpc>
              <a:spcBef>
                <a:spcPts val="20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If you missed a test because of an excused absence, inform the teacher and arrange a time to make up the test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4" marL="1141560" indent="-344520">
              <a:lnSpc>
                <a:spcPct val="80000"/>
              </a:lnSpc>
              <a:spcBef>
                <a:spcPts val="601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You will have one day to make-up work for every day you are absent.</a:t>
            </a: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 advTm="50000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While You Are Working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78720" indent="-378720">
              <a:lnSpc>
                <a:spcPct val="60000"/>
              </a:lnSpc>
              <a:spcBef>
                <a:spcPts val="2001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ndara"/>
              </a:rPr>
              <a:t>Make sure you read or listen to the directions about your work and understand the directions.</a:t>
            </a:r>
            <a:endParaRPr b="1" lang="en-US" sz="2600" spc="-1" strike="noStrike">
              <a:solidFill>
                <a:srgbClr val="ffffff"/>
              </a:solidFill>
              <a:latin typeface="Candara"/>
            </a:endParaRPr>
          </a:p>
          <a:p>
            <a:pPr marL="378720" indent="-378720">
              <a:lnSpc>
                <a:spcPct val="60000"/>
              </a:lnSpc>
              <a:spcBef>
                <a:spcPts val="2001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ndara"/>
              </a:rPr>
              <a:t>If you didn’t understand, quietly ask for help from other students sitting around you.</a:t>
            </a:r>
            <a:endParaRPr b="1" lang="en-US" sz="2600" spc="-1" strike="noStrike">
              <a:solidFill>
                <a:srgbClr val="ffffff"/>
              </a:solidFill>
              <a:latin typeface="Candara"/>
            </a:endParaRPr>
          </a:p>
          <a:p>
            <a:pPr marL="378720" indent="-378720">
              <a:lnSpc>
                <a:spcPct val="60000"/>
              </a:lnSpc>
              <a:spcBef>
                <a:spcPts val="2001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ndara"/>
              </a:rPr>
              <a:t>If you are asked to help, be polite and help.</a:t>
            </a:r>
            <a:endParaRPr b="1" lang="en-US" sz="2600" spc="-1" strike="noStrike">
              <a:solidFill>
                <a:srgbClr val="ffffff"/>
              </a:solidFill>
              <a:latin typeface="Candara"/>
            </a:endParaRPr>
          </a:p>
          <a:p>
            <a:pPr marL="378720" indent="-378720">
              <a:lnSpc>
                <a:spcPct val="60000"/>
              </a:lnSpc>
              <a:spcBef>
                <a:spcPts val="2001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ndara"/>
              </a:rPr>
              <a:t>Talking to each other should be no louder than a whisper. </a:t>
            </a:r>
            <a:endParaRPr b="1" lang="en-US" sz="2600" spc="-1" strike="noStrike">
              <a:solidFill>
                <a:srgbClr val="ffffff"/>
              </a:solidFill>
              <a:latin typeface="Candara"/>
            </a:endParaRPr>
          </a:p>
          <a:p>
            <a:pPr marL="378720" indent="-378720">
              <a:lnSpc>
                <a:spcPct val="60000"/>
              </a:lnSpc>
              <a:spcBef>
                <a:spcPts val="2001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ndara"/>
              </a:rPr>
              <a:t>Respect each other and be friendly.</a:t>
            </a:r>
            <a:endParaRPr b="1" lang="en-US" sz="2600" spc="-1" strike="noStrike">
              <a:solidFill>
                <a:srgbClr val="ffffff"/>
              </a:solidFill>
              <a:latin typeface="Candara"/>
            </a:endParaRPr>
          </a:p>
          <a:p>
            <a:pPr marL="378720" indent="-378720">
              <a:lnSpc>
                <a:spcPct val="60000"/>
              </a:lnSpc>
              <a:spcBef>
                <a:spcPts val="2001"/>
              </a:spcBef>
              <a:buSzPct val="1028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ndara"/>
              </a:rPr>
              <a:t>Use your time wisely.  Put forth your best effort to finish your work on time.</a:t>
            </a:r>
            <a:endParaRPr b="1" lang="en-US" sz="2600" spc="-1" strike="noStrike">
              <a:solidFill>
                <a:srgbClr val="ffffff"/>
              </a:solidFill>
              <a:latin typeface="Candara"/>
            </a:endParaRPr>
          </a:p>
          <a:p>
            <a:pPr marL="378720" indent="-378720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 advTm="66000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After You Are Finished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74760" indent="-374760">
              <a:spcBef>
                <a:spcPts val="20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Check your work and the directions one more time to see if you missed anything or did something incorrectly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374760" indent="-374760">
              <a:spcBef>
                <a:spcPts val="20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Check to see if the heading is written correctly on your paper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374760" indent="-374760">
              <a:spcBef>
                <a:spcPts val="2001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If the assignment is to be turned in, do so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374760" indent="-374760">
              <a:spcBef>
                <a:spcPts val="2001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If appropriate, read quietly in your seat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 advTm="50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457200" y="671400"/>
            <a:ext cx="73152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in room 000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be thinking, “Am I in the right place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9a0d"/>
                </a:solidFill>
                <a:latin typeface="Arial"/>
              </a:rPr>
              <a:t>If your schedule s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9a0d"/>
                </a:solidFill>
                <a:latin typeface="Arial"/>
              </a:rPr>
              <a:t>Mrs. Lancaster, Sci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a9a0d"/>
                </a:solidFill>
                <a:latin typeface="Arial"/>
              </a:rPr>
              <a:t>you are in the right roo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8000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Maintaining the Classroom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20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Pick up any garbage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Recycle papers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Do not intentionally deface school, personal, or other’s personal property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 advTm="39000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Dismissal</a:t>
            </a:r>
            <a:br>
              <a:rPr sz="5600"/>
            </a:b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20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Clean your work area and take all garbage to the trash can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Wait in your seat for the teacher to dismiss you. 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Leave quietly, ONLY after you have been given permission to do so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 advTm="20000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ndara"/>
              </a:rPr>
              <a:t>When You Have an Excused Tardy</a:t>
            </a:r>
            <a:endParaRPr b="1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20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Report to attendance office to get tardy slip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Enter the classroom quietly and go to your seat. 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You will not be excused from any work you missed.  Quietly, get the assignment and </a:t>
            </a:r>
            <a:r>
              <a:rPr b="1" i="1" lang="en-US" sz="2800" spc="-1" strike="noStrike">
                <a:solidFill>
                  <a:srgbClr val="ffffff"/>
                </a:solidFill>
                <a:latin typeface="Candara"/>
              </a:rPr>
              <a:t>do the work at home</a:t>
            </a: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 advTm="20000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When There Is a Substitute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83040" indent="-383040">
              <a:spcBef>
                <a:spcPts val="20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We treat guests in our room as courteously or better than we treat Mrs. Lancaster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lvl="1" marL="766080" indent="-383040">
              <a:spcBef>
                <a:spcPts val="601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Sit in your assigned seat ONLY.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lvl="1" marL="766080" indent="-383040">
              <a:spcBef>
                <a:spcPts val="601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Maintain proper voice levels.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lvl="1" marL="766080" indent="-383040">
              <a:spcBef>
                <a:spcPts val="601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Remain on task. 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lvl="1" marL="766080" indent="-383040">
              <a:spcBef>
                <a:spcPts val="601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Be helpful and courteous.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lvl="4" marL="1409760" indent="-3254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ubs will report behaviors (good &amp; bad) and proper consequences will be applied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 advTm="40000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Final Thought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Learning without reasoning leads to confusion; thinking without learning is wasted effort.”  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~Confucius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526000" y="1598760"/>
            <a:ext cx="3618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 advTm="10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Contact Information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Email  xxxxxx@washoe.k12.nv.us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Office Hours:  M</a:t>
            </a:r>
            <a:r>
              <a:rPr b="1" lang="en-US" sz="2800" spc="-1" strike="noStrike">
                <a:solidFill>
                  <a:srgbClr val="ffffff"/>
                </a:solidFill>
                <a:latin typeface="SimSun"/>
                <a:ea typeface="SimSu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F 2:00 - 2:30 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lvl="1" marL="806400" indent="-403200">
              <a:spcBef>
                <a:spcPts val="601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ndara"/>
              </a:rPr>
              <a:t>and every day at lunch.</a:t>
            </a:r>
            <a:endParaRPr b="1" lang="en-US" sz="22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 advTm="46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MISSION 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28600" y="11426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2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Mrs. Lancaster’s Science class is a place to explore the world around us and to ask and answer questions regarding sound scientific practices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 advTm="20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WELCOME to SCIENCE!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20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Welcome to Science class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I am here to teach; you are here to learn.    I will do my job; you will do yours, and together we will utilize this year wisely and beneficially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A positive attitude is the key to success. Let’s keep it all the times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 advTm="30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Class Syllabus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779400" y="1892160"/>
            <a:ext cx="365760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  <a:p>
            <a:pPr lvl="1" marL="806400" indent="-403200">
              <a:spcBef>
                <a:spcPts val="6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Scientific Method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806400" indent="-403200">
              <a:spcBef>
                <a:spcPts val="6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Metric System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806400" indent="-403200">
              <a:spcBef>
                <a:spcPts val="6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Living/Nonliving classifications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806400" indent="-403200">
              <a:spcBef>
                <a:spcPts val="6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Cells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336600">
              <a:spcBef>
                <a:spcPts val="601"/>
              </a:spcBef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Structure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336600">
              <a:spcBef>
                <a:spcPts val="601"/>
              </a:spcBef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Processes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336600">
              <a:spcBef>
                <a:spcPts val="601"/>
              </a:spcBef>
              <a:buSzPct val="10281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Reproduction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806400" indent="-403200">
              <a:spcBef>
                <a:spcPts val="601"/>
              </a:spcBef>
              <a:buSzPct val="1131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657600" y="1598760"/>
            <a:ext cx="39924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6400" indent="-403200">
              <a:spcBef>
                <a:spcPts val="60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806400" indent="-403200">
              <a:spcBef>
                <a:spcPts val="601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Heredity &amp; Evolution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336600">
              <a:spcBef>
                <a:spcPts val="601"/>
              </a:spcBef>
              <a:buSzPct val="102812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Genetics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806400" indent="-403200">
              <a:spcBef>
                <a:spcPts val="601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Plants &amp; Animals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336600">
              <a:spcBef>
                <a:spcPts val="601"/>
              </a:spcBef>
              <a:buSzPct val="102812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Classification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336600">
              <a:spcBef>
                <a:spcPts val="601"/>
              </a:spcBef>
              <a:buSzPct val="102812"/>
              <a:buBlip>
                <a:blip r:embed="rId1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Anatomy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806400" indent="-403200">
              <a:spcBef>
                <a:spcPts val="601"/>
              </a:spcBef>
              <a:buSzPct val="10281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Ecology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336600">
              <a:spcBef>
                <a:spcPts val="601"/>
              </a:spcBef>
              <a:buSzPct val="102812"/>
              <a:buBlip>
                <a:blip r:embed="rId1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Environment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336600">
              <a:spcBef>
                <a:spcPts val="601"/>
              </a:spcBef>
              <a:buSzPct val="102812"/>
              <a:buBlip>
                <a:blip r:embed="rId1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Ecosystems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336600">
              <a:spcBef>
                <a:spcPts val="601"/>
              </a:spcBef>
              <a:buSzPct val="102812"/>
              <a:buBlip>
                <a:blip r:embed="rId1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Resources</a:t>
            </a:r>
            <a:endParaRPr b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838080" y="114300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ill we explo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1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Class Policies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94920" indent="-394920">
              <a:spcBef>
                <a:spcPts val="20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There are only five basic classroom policies.  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394920" indent="-394920">
              <a:spcBef>
                <a:spcPts val="20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Following these policies will help keep our class environment peaceful and productive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394920" indent="-394920">
              <a:spcBef>
                <a:spcPts val="2001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If you choose not to adhere to the policies, there will be logical consequences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394920" indent="-3949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 advTm="20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Why do we have policies?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63520" y="1598400"/>
            <a:ext cx="73864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78720" indent="-378720">
              <a:lnSpc>
                <a:spcPct val="90000"/>
              </a:lnSpc>
              <a:spcBef>
                <a:spcPts val="20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A policy is a plan that guides our actions.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378720" indent="-378720">
              <a:lnSpc>
                <a:spcPct val="90000"/>
              </a:lnSpc>
              <a:spcBef>
                <a:spcPts val="20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To do things effectively, we have to adhere to some common sense policies:</a:t>
            </a:r>
            <a:endParaRPr b="1" lang="en-US" sz="2800" spc="-1" strike="noStrike">
              <a:solidFill>
                <a:srgbClr val="ffffff"/>
              </a:solidFill>
              <a:latin typeface="Candara"/>
            </a:endParaRPr>
          </a:p>
          <a:p>
            <a:pPr lvl="1" marL="757800" indent="-378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Governments invoke laws to help maintain peaceful communities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1" marL="757800" indent="-378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Companies have by-laws in order to facilitate productive work environments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1" marL="757800" indent="-3787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Games have rules to create a baseline standard of play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4" marL="1447200" indent="-263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o, to be successful in learning, you need to follow some basic classroom rules!       I call them my class policies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1" marL="757800" indent="-378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 advTm="50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Classroom Policies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ndara"/>
              </a:rPr>
              <a:t>Be ready to learn.</a:t>
            </a:r>
            <a:endParaRPr b="1" lang="en-US" sz="2600" spc="-1" strike="noStrike">
              <a:solidFill>
                <a:srgbClr val="ffffff"/>
              </a:solidFill>
              <a:latin typeface="Candara"/>
            </a:endParaRPr>
          </a:p>
          <a:p>
            <a:pPr marL="560520" indent="-56052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ndara"/>
              </a:rPr>
              <a:t>Always act and speak in an appropriate manner.</a:t>
            </a:r>
            <a:endParaRPr b="1" lang="en-US" sz="2600" spc="-1" strike="noStrike">
              <a:solidFill>
                <a:srgbClr val="ffffff"/>
              </a:solidFill>
              <a:latin typeface="Candara"/>
            </a:endParaRPr>
          </a:p>
          <a:p>
            <a:pPr marL="560520" indent="-56052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ndara"/>
              </a:rPr>
              <a:t>No food, or drink allowed.*</a:t>
            </a:r>
            <a:endParaRPr b="1" lang="en-US" sz="2600" spc="-1" strike="noStrike">
              <a:solidFill>
                <a:srgbClr val="ffffff"/>
              </a:solidFill>
              <a:latin typeface="Candara"/>
            </a:endParaRPr>
          </a:p>
          <a:p>
            <a:pPr marL="560520" indent="-56052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ndara"/>
              </a:rPr>
              <a:t>No personal electronics allowed.</a:t>
            </a:r>
            <a:endParaRPr b="1" lang="en-US" sz="2600" spc="-1" strike="noStrike">
              <a:solidFill>
                <a:srgbClr val="ffffff"/>
              </a:solidFill>
              <a:latin typeface="Candara"/>
            </a:endParaRPr>
          </a:p>
          <a:p>
            <a:pPr marL="560520" indent="-56052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ndara"/>
              </a:rPr>
              <a:t>Respect the classroom environment.</a:t>
            </a:r>
            <a:endParaRPr b="1" lang="en-US" sz="2600" spc="-1" strike="noStrike">
              <a:solidFill>
                <a:srgbClr val="ffffff"/>
              </a:solidFill>
              <a:latin typeface="Candara"/>
            </a:endParaRPr>
          </a:p>
          <a:p>
            <a:pPr lvl="2" marL="632160" indent="-632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ff"/>
              </a:solidFill>
              <a:latin typeface="Candara"/>
            </a:endParaRPr>
          </a:p>
          <a:p>
            <a:pPr lvl="2" marL="632160" indent="-632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12c28"/>
                </a:solidFill>
                <a:latin typeface="Candara"/>
              </a:rPr>
              <a:t>	</a:t>
            </a:r>
            <a:r>
              <a:rPr b="1" lang="en-US" sz="1900" spc="-1" strike="noStrike">
                <a:solidFill>
                  <a:srgbClr val="212c28"/>
                </a:solidFill>
                <a:latin typeface="Candara"/>
              </a:rPr>
              <a:t>*Water and medical necessity are</a:t>
            </a:r>
            <a:endParaRPr b="1" lang="en-US" sz="1900" spc="-1" strike="noStrike">
              <a:solidFill>
                <a:srgbClr val="ffffff"/>
              </a:solidFill>
              <a:latin typeface="Candara"/>
            </a:endParaRPr>
          </a:p>
          <a:p>
            <a:pPr lvl="2" marL="632160" indent="-632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12c28"/>
                </a:solidFill>
                <a:latin typeface="Candara"/>
              </a:rPr>
              <a:t>          </a:t>
            </a:r>
            <a:r>
              <a:rPr b="1" lang="en-US" sz="1900" spc="-1" strike="noStrike">
                <a:solidFill>
                  <a:srgbClr val="212c28"/>
                </a:solidFill>
                <a:latin typeface="Candara"/>
              </a:rPr>
              <a:t>the ONLY exceptions*</a:t>
            </a:r>
            <a:endParaRPr b="1" lang="en-US" sz="19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 advTm="26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21:48:30Z</dcterms:created>
  <dc:creator>Sacha Mike</dc:creator>
  <dc:description/>
  <dc:language>en-US</dc:language>
  <cp:lastModifiedBy>Diane Lancaster</cp:lastModifiedBy>
  <dcterms:modified xsi:type="dcterms:W3CDTF">2010-09-30T15:22:49Z</dcterms:modified>
  <cp:revision>55</cp:revision>
  <dc:subject/>
  <dc:title>CLASSROOM PROCEDURES</dc:title>
</cp:coreProperties>
</file>